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7C2-EAD8-47CB-8513-1F1A5C2A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E63-D798-41C3-8F2F-90E68045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AA0-3D86-4DBB-A6FB-3BB3F340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BF7-9987-412E-A61B-D6FC842B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847-81EF-4EE4-8358-BEB59351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B74-FA1F-4673-B703-1D028219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BB3-73D2-4D0B-9057-11FB3062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5F8-5CFB-40DE-A4A0-FCB9C87C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FB7E-DE39-4D79-9E7E-9EEC5476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503-BD3F-4DBA-81A2-E8F56F78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566-BD74-4A59-990F-04F4B799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974-7608-4620-BC5D-8098A9D7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6D54-6241-49C7-96FA-4C80A8CB4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9379-2795-44DF-BBFB-3008B9B9A2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 Assessment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4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685800" y="111744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glish Language Art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685800" y="1832040"/>
            <a:ext cx="76201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le 1"/>
          <p:cNvSpPr/>
          <p:nvPr/>
        </p:nvSpPr>
        <p:spPr>
          <a:xfrm>
            <a:off x="642960" y="1219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A Reporting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81080"/>
          <a:ext cx="8077320" cy="4649760"/>
        </p:xfrm>
        <a:graphic>
          <a:graphicData uri="http://schemas.openxmlformats.org/drawingml/2006/table">
            <a:tbl>
              <a:tblPr/>
              <a:tblGrid>
                <a:gridCol w="2319480"/>
                <a:gridCol w="2214360"/>
                <a:gridCol w="2197080"/>
                <a:gridCol w="1346400"/>
              </a:tblGrid>
              <a:tr h="9288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ELA Reporting Framework, Clusters, and Catego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Reporting Category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</a:tr>
              <a:tr h="29844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Gen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Literature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Informational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Core Competen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Key Ideas and Details [Key Ideas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A–K/B–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Craft and Structure, and Integration of Knowledge and Ideas [CS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A–C/B–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Vocabulary Acquisition and Use [Vocabulary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A–V/B–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gridSpan="2"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Text Dependent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le 2"/>
          <p:cNvSpPr/>
          <p:nvPr/>
        </p:nvSpPr>
        <p:spPr>
          <a:xfrm>
            <a:off x="490680" y="11397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em Types and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30320" y="1846440"/>
          <a:ext cx="5283360" cy="2179440"/>
        </p:xfrm>
        <a:graphic>
          <a:graphicData uri="http://schemas.openxmlformats.org/drawingml/2006/table">
            <a:tbl>
              <a:tblPr/>
              <a:tblGrid>
                <a:gridCol w="3291120"/>
                <a:gridCol w="707760"/>
                <a:gridCol w="12844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Grade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0 core passage MC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0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8 core standalone MC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 core 2 pt EBSR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8 point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4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 core 3 pt EBSR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6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 core 3 pt SA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6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 core 4 pt WP (weighted x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8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62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963800" y="4191120"/>
          <a:ext cx="5283000" cy="2071440"/>
        </p:xfrm>
        <a:graphic>
          <a:graphicData uri="http://schemas.openxmlformats.org/drawingml/2006/table">
            <a:tbl>
              <a:tblPr/>
              <a:tblGrid>
                <a:gridCol w="3259080"/>
                <a:gridCol w="708120"/>
                <a:gridCol w="1315800"/>
              </a:tblGrid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Grades 4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3 core passage MC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3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8 core standalone MC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8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3 core 2 pt EBSR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6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3 core 3 pt EBSR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9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 core 4 pt TDA (weighted x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6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 core 4 pt WP (weighted x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2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84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le 2"/>
          <p:cNvSpPr/>
          <p:nvPr/>
        </p:nvSpPr>
        <p:spPr>
          <a:xfrm>
            <a:off x="457200" y="103356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de 3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1752480"/>
          <a:ext cx="8305920" cy="4875480"/>
        </p:xfrm>
        <a:graphic>
          <a:graphicData uri="http://schemas.openxmlformats.org/drawingml/2006/table">
            <a:tbl>
              <a:tblPr/>
              <a:tblGrid>
                <a:gridCol w="900360"/>
                <a:gridCol w="1512720"/>
                <a:gridCol w="1200240"/>
                <a:gridCol w="1890720"/>
                <a:gridCol w="1299960"/>
                <a:gridCol w="1501920"/>
              </a:tblGrid>
              <a:tr h="118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Content Emph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Number of MC/EB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Number o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WP/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Estimated Number of Pass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Estimated Section Testing Time (in minu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</a:tr>
              <a:tr h="831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Writing and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0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8–12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–3 EB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34–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64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4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 EB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8–12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–3 EB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34–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696960" y="990720"/>
            <a:ext cx="7772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des 4-8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2004840"/>
          <a:ext cx="8305920" cy="4700880"/>
        </p:xfrm>
        <a:graphic>
          <a:graphicData uri="http://schemas.openxmlformats.org/drawingml/2006/table">
            <a:tbl>
              <a:tblPr/>
              <a:tblGrid>
                <a:gridCol w="768240"/>
                <a:gridCol w="1889280"/>
                <a:gridCol w="1220760"/>
                <a:gridCol w="1703520"/>
                <a:gridCol w="1315800"/>
                <a:gridCol w="1408320"/>
              </a:tblGrid>
              <a:tr h="118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Content Emph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Number of MC/EB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Number of WP/T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Estimated Number of Pass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Estimated Section Testing Time (in minu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</a:tr>
              <a:tr h="87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Writing and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0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5–18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4–5 EB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58–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87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Reading 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Text Dependent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4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 EB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Reading 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Text Dependent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5–8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–2 EB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48–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ade 4 Evidence Based Selected Response (3 pts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Users\khelm\AppData\Local\Microsoft\Windows\Temporary Internet Files\Content.Outlook\0US3TGUC\Smpl_Reading_G4_ESR3_Paper (2).jpg"/>
          <p:cNvPicPr/>
          <p:nvPr/>
        </p:nvPicPr>
        <p:blipFill>
          <a:blip r:embed="rId1"/>
          <a:stretch/>
        </p:blipFill>
        <p:spPr>
          <a:xfrm>
            <a:off x="1066680" y="1600200"/>
            <a:ext cx="7182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83016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de 8 Language Multiple Choice (1 p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Users\dsimaska\Desktop\Getting Ready\ELAG8MC.jpg"/>
          <p:cNvPicPr/>
          <p:nvPr/>
        </p:nvPicPr>
        <p:blipFill>
          <a:blip r:embed="rId1"/>
          <a:stretch/>
        </p:blipFill>
        <p:spPr>
          <a:xfrm>
            <a:off x="228600" y="2457360"/>
            <a:ext cx="8686800" cy="265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29492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Grade 7 Writing Prom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4 pts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dsimaska\Desktop\Getting Ready\ELAG7prompt.jpg"/>
          <p:cNvPicPr/>
          <p:nvPr/>
        </p:nvPicPr>
        <p:blipFill>
          <a:blip r:embed="rId1"/>
          <a:stretch/>
        </p:blipFill>
        <p:spPr>
          <a:xfrm>
            <a:off x="528480" y="2590920"/>
            <a:ext cx="82296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921960"/>
            <a:ext cx="84582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Grade 7 Text Dependent Analysis Essay (4 p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dsimaska\Desktop\Getting Ready\ELAG7TDA_print.jpg"/>
          <p:cNvPicPr/>
          <p:nvPr/>
        </p:nvPicPr>
        <p:blipFill>
          <a:blip r:embed="rId1"/>
          <a:stretch/>
        </p:blipFill>
        <p:spPr>
          <a:xfrm>
            <a:off x="1689120" y="1600200"/>
            <a:ext cx="576576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68580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Are TDA Responses Sco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401760" y="2751120"/>
            <a:ext cx="828504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76280" y="21333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eystone Ex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SSA 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SSA Rea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w combined with Writing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SSA E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separate booklet and test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SSA Wri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w combined with Reading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SSA E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separate booklet and test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SSA M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SSA Ma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eparate booklet and test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762120" y="123516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stone Ex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1600200" y="160020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SSA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t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ssessme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838080" y="1981080"/>
            <a:ext cx="7331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d"/>
                </a:solidFill>
                <a:latin typeface="Wingdings-Regula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umbers and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‐T = Numbers and Operations in Base Ten (Grades 3–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‐F = Numbers and Operations – Fractions (Grades 3–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‐N = The Number System (Grades 6–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‐R = Ratios and Proportional Relationships (Grades 6,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lgebra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‐O = Operations and Algebraic Thinking (Grades 3–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‐E = Expressions and Equations (Grades 6–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‐F = Functions (Grade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‐G = Geometry (Grades 3–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ata Analysis and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‐M = Measurement and Data (Grades 3–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‐S = Statistics and Probability (Grades 6–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290600" y="1106640"/>
            <a:ext cx="618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porting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100" name="Title 3"/>
          <p:cNvSpPr/>
          <p:nvPr/>
        </p:nvSpPr>
        <p:spPr>
          <a:xfrm>
            <a:off x="457200" y="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em Types and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6"/>
          <p:cNvSpPr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r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1490760" y="3429000"/>
            <a:ext cx="60958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762120" y="1355760"/>
            <a:ext cx="7010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110" name="Title 1"/>
          <p:cNvSpPr/>
          <p:nvPr/>
        </p:nvSpPr>
        <p:spPr>
          <a:xfrm>
            <a:off x="609480" y="1417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Math 2015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334800" y="2362320"/>
            <a:ext cx="832176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115" name="Title 1"/>
          <p:cNvSpPr/>
          <p:nvPr/>
        </p:nvSpPr>
        <p:spPr>
          <a:xfrm>
            <a:off x="609480" y="12952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Math 2015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3"/>
          <a:stretch/>
        </p:blipFill>
        <p:spPr>
          <a:xfrm>
            <a:off x="457200" y="2133720"/>
            <a:ext cx="833436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685800" y="1865160"/>
            <a:ext cx="7772400" cy="31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20:35:02Z</dcterms:created>
  <dc:creator>aforsman</dc:creator>
  <dc:description/>
  <dc:language>en-US</dc:language>
  <cp:lastModifiedBy>Diahann Snisky</cp:lastModifiedBy>
  <cp:lastPrinted>2014-09-17T13:54:57Z</cp:lastPrinted>
  <dcterms:modified xsi:type="dcterms:W3CDTF">2014-10-21T13:10:59Z</dcterms:modified>
  <cp:revision>29</cp:revision>
  <dc:subject/>
  <dc:title>Slide 1</dc:title>
</cp:coreProperties>
</file>